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8444-13DE-42B0-B887-1D8634005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6FA7-5160-41B8-BDEB-94C47A16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A740BE-80B0-4126-96B5-12C4DBF8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03FB99-EBD3-44EF-9C0A-5BF62B15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25C516-D3D7-4A64-B635-CA12597D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6CDD66-198A-454F-8CC8-864B1E93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E44858-A7F9-45BA-B242-E0EE1ADA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55486C-A417-4D20-B181-55DCAFA1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3BE4DA-B39B-4A56-98D0-43C43057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FA318D-A510-4919-B1EC-EC9C249B3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9385EE-C0A1-46D7-8FEF-52D578740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2DAE-28CF-4BA4-B992-5A16E955E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04FE-A43A-4937-BC75-DC0C3D59F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38B9F-EAB6-4933-BDF5-A329E54D4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90A2B3-5944-459D-A0FD-6593D232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8E172-7D5F-44B7-8E78-ED46A846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2E674-1529-422D-B301-9CF682A2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9C65D9-94A7-420A-B727-333AECD9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AE57E-BA60-49F9-962D-397B96F6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F9AA0-61A8-4C5C-B01F-BEE44501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3E06-D892-417C-812E-1DF3393D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EF1A6A-D503-4CA6-8A77-4092F92A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A7AB3-C415-481E-975B-D8C6B8C9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D2FB85-340E-4D64-9DDB-8EFB8883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1D1280-8D7F-4BA9-8342-24E6FC2A9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D8563D-8418-4944-8DA9-6A26791D0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7B37A-89A0-472E-BFF5-0FABEC3A5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A4554-3D81-4D89-A18A-DC696D49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03F5C-E47A-43E1-8C73-FC868B65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32962-EC72-43E2-932B-CCFC05F7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1820D-0BD5-4C51-B8AD-3A30905D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4554-E90D-4C73-A562-EA460A22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A71C6-6DE1-4179-9CE1-C684BE61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6C084-7E6E-4925-BD4E-C81640F7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F509B-12B8-480E-991F-FB45ACA1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520D5-2059-499B-A11F-C4829633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AC29A-5DDE-48E7-92EE-41575774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F38D0-984A-4850-8C45-3F132ADEB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A8BE8-4D04-4CAF-9458-D3704979C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CDF555-7CEB-4266-AC08-04E0FE9AF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E5D7FD-6E98-4C9D-A084-63640E3D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EE3C34-4F69-43C0-834E-CC360864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F5D5-B60F-4E96-A8C4-6AFF6664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C6F9FD-6642-4672-A7EC-4A2429CC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698BC9-3BC2-4AE4-BCA0-63D0462C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A90B6B-AD43-41A9-A6AE-D1F72E1B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BC2BCB-C2A4-4492-9E61-251C56F1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F414F5-C9B2-4197-B99A-64A85074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1CA3E3-4210-4CD4-9B39-94829337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C8F48A-CD18-42C7-94C9-4C315EB4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570AD7-474D-46D7-9AA1-E655D4718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1BDE3B-3FA3-4DBC-BC58-99C7CF681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4D579-8EB1-4B1D-ABF5-2B2D92C33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2BB3-8007-4097-882D-EBBD8E15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72AE3-8BB5-4895-8DEB-09E39A05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99E23-16CA-4FFC-B5F8-605CFE2B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01038-9200-405F-9E54-4DF608C0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E1328-9ADB-44EA-AE40-0F40285A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40341-90F1-40A6-BBB4-3D18E058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9B138-1AD0-4B48-BF4C-A2A890CF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4D2EF-4425-4F3A-AB2E-AB461613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23747-C0D2-4455-B650-43653C02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3E07E-5BF7-4A19-9555-2F224F69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33DDA-D65F-453D-98E9-FEF676AA0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E3A8-495D-46A3-A980-7C4A6722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7FDE6-0CA6-412B-9744-AE910E40A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F79C9-0707-466D-B103-5F55D8F50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AA766-95D1-4C2C-9246-DD4DF839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9B5AB-1FD1-4ED2-8DD4-3C2A220B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2499A-EA4A-4724-A7A0-945DE652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D9A4D-02E2-4516-B644-BA974667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FA02C-1A9B-486A-942F-7BCE87A7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28689-F3A4-4723-A82D-58F7475B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C1543-ABA2-4D98-9FB0-D0B6EF62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F70CA-7C42-41E8-9DD6-37EE4C4A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633C-7687-448F-818F-0E334A24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AC4E1-8FCB-48BF-A590-8070EFB1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F55B1-02AA-409F-90FB-420C1DB32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DC08B-518C-4F5F-9187-221A4D46E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84BDE-FF46-485D-AE61-5659F66FD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B9605-EFE4-45A5-858C-F02425A8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AB797-B463-4774-959B-1002CA9E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52F78-8AB9-416B-95CD-7F4E2F4A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FE1CF-5AAB-409D-B82F-B58C571B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A8DFF-B08B-40E4-A5CF-9A0CBC20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49AD3-DD41-4E1C-81C7-476704C6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1255-BFBA-4A77-972D-ED2C768D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1000D-B401-44D0-A848-82292BA5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C40A6-E728-467D-905B-B3F9ECB0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CE333-41D2-4869-9EB5-2F5C471A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DEB8C-9147-4D21-BBD6-12BDA5CC6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F19FC-E39D-4D6B-9638-41B4C5555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057C4F-DD0F-4E25-B96C-7A7064F09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A942CA-748F-455E-945B-BB287487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F8FE68-E568-45FC-91BB-4164F8BA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413862-6774-4850-BC48-BB47046D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E17F51-8CC4-4C92-B3DC-0BF881EB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127D-E7A7-4A1E-B86F-D7D1EB09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6DBE37-326F-44A4-B8DB-6FAE7BD0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9CE696-AD15-4DB5-8962-1879A610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747074-CF40-4109-B176-B5B57F16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C6AFE1-EC26-4B9F-B7E7-4366E09F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31EFDB-1D34-4A85-B1E6-4A9D9B98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A34F0D-E6AB-43EE-94A7-D8783FE31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613D19-5F01-48C7-AF02-437E28BC9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2E8619-1481-42BD-AD0B-7347A9794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964374-23EB-406F-98CF-800BB368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F44057-0FA9-42B6-AA07-507AD1F3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0b0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0b0b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7165-4F3F-4FA9-A1F3-26A9128852D5}" type="slidenum">
              <a:rPr b="0" lang="en-US" sz="1600" spc="-1" strike="noStrike">
                <a:solidFill>
                  <a:srgbClr val="d3dee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e5ec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e5ec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0b0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0b0b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2326-DDFD-41FC-A323-91C66CA4DA78}" type="slidenum">
              <a:rPr b="0" lang="en-US" sz="1600" spc="-1" strike="noStrike">
                <a:solidFill>
                  <a:srgbClr val="d3dee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7ca3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e5ec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0b0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0b0b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C574-C255-41E6-95B5-0BD15C6688EC}" type="slidenum">
              <a:rPr b="0" lang="en-US" sz="1600" spc="-1" strike="noStrike">
                <a:solidFill>
                  <a:srgbClr val="d3dee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7ca3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e5ec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0b0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0b0b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A99F-B1FB-4861-9F91-5D06CD28E5ED}" type="slidenum">
              <a:rPr b="0" lang="en-US" sz="1600" spc="-1" strike="noStrike">
                <a:solidFill>
                  <a:srgbClr val="d3dee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7ca3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e5ec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0b0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0b0b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C2F7-424B-4AD9-9AEE-121E08D1D094}" type="slidenum">
              <a:rPr b="0" lang="en-US" sz="1600" spc="-1" strike="noStrike">
                <a:solidFill>
                  <a:srgbClr val="d3dee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7ca3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7ca3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e5ec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0b0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0b0b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7A08-F939-4118-9822-5D60205FD25F}" type="slidenum">
              <a:rPr b="0" lang="en-US" sz="1600" spc="-1" strike="noStrike">
                <a:solidFill>
                  <a:srgbClr val="d3dee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7ca3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e5ec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0b0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0b0b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F214-04E2-4D67-9DF3-9217D734AD31}" type="slidenum">
              <a:rPr b="0" lang="en-US" sz="1600" spc="-1" strike="noStrike">
                <a:solidFill>
                  <a:srgbClr val="d3dee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7ca3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e5ec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0b0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0b0b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168C-BECF-4D27-AD7C-E1A5A2CA44E6}" type="slidenum">
              <a:rPr b="0" lang="en-US" sz="1600" spc="-1" strike="noStrike">
                <a:solidFill>
                  <a:srgbClr val="d3dee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e5ec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c8e5ec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0b0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0b0b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4C47-56E1-45A3-A9E0-56D3512C92EC}" type="slidenum">
              <a:rPr b="0" lang="en-US" sz="1600" spc="-1" strike="noStrike">
                <a:solidFill>
                  <a:srgbClr val="d3dee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066-1485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 system of ideals and social codes governing the behavior of knights and gentlewom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cluded taking an oath of loyalty to an overlord and observing certain rules of warfare, such as never attacking an unarmed opponen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anguage – French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285840" y="249120"/>
            <a:ext cx="8705880" cy="11653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Primary duty of males above serf class was military service to their lords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Page – young boys (around age 7) were sent to the home of a lord to begin training.  They were trained in other homes to ensure the training was strict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Taught to read, write, sing, dance, play the harp, play chess, and rules of good manners by the ladies and the clergymen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Taught to ride, wrestle, joust, and use a sword by squires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5331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quire – around age 14; personal servant to a knigh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Helped the knight dress, served meals, made his bed, carried armor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ourtly love – the idea that adoring a lady would make a knight braver and nobler; in its ideal form, courtly love is nonsexua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buClr>
                <a:srgbClr val="d2da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A knight might wear his lady’s colors in battle, glorify her in words, be inspired by her, but she was always pure and remained out of reach.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456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Knight – around age 21; huge ceremony; he held an all-night vigil in full armor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ccolade – 3 strokes with the flat side of a sword (“dubbed”); originally a hard blow meant to test the courage of the person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Largess – gifts given to the knight from his patron knight and gifts from the new knight to his companions and inferior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itle of “Sir”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Duty of a knight – service to God, his lord, and his lad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Title 1" descr=""/>
          <p:cNvPicPr/>
          <p:nvPr/>
        </p:nvPicPr>
        <p:blipFill>
          <a:blip r:embed="rId1"/>
          <a:stretch/>
        </p:blipFill>
        <p:spPr>
          <a:xfrm>
            <a:off x="420840" y="249120"/>
            <a:ext cx="8570880" cy="11653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dvantages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Made for refinement in a rough ag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ncouraged loyalty and courag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xalted the position of women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isadvantages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ook no account of the common peopl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ook some virtues to absurd length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Joust – 2 knights ride at each other with lances; if either is unhorsed, they continue to fight on foot with swords (think of this as maybe a wrestling match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ourney proper – several knights on horseback with swords until one party was defeated or the herald stopped the contest (think of this as a football game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ist – oval enclosure surrounded by two rows of seats (think of this as a stadium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avilion – located at each end of the list for the opposing knights (think of this as the locker room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eralds – presided over tournaments and enforced  rules (think of this as the referee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rmor in the early Middle Ages consisted of a helmet, a shield, and a mail shirt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s weapons became more deadly, the need for more protection of heavier armor led to compromised flexibility and mobility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457200" y="5331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80080" indent="-28008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Armor was held together by rivets, leather straps, hinges, turning pins, buckles, and pegs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A heavily padded undergarment of leather and a mail shirt were worn under the armor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Plate arm, leg, and foot pieces were also worn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Some suits weighed 120 pounds and had 200 custom-fitted iron plates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The knight also carried a dagger, a lance, a sword, a battle-ax, and a club-headed mace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609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 addition to the threat of battle, the armor itself could be fatal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Knights could die from suffocation, heart failure, heat stroke, even drowning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Knights were unable to dress themselve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attles were scheduled to give the knights time to dress. 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rvants stood nearby in order to help knights who had been unhorsed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October 1066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ay-long battle near Hastings, England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illiam, Duke of Normandy, defeated King Harold of England, the last Saxon king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eginning of the Norman Conques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milar to today’s union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anguage -- English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erchant Guild – organized to include all those who sold good in the tow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Main purpose – monopolize the trade of its particular cit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rafts Guild – organization of artisans of various trade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Main purpose – securing competent workmen and honest product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5331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evels of Craftsmen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pprentice – lived with a master craftsman for 7 years; received no pay, but he was instructed in the art by the master craftsman; supplied with all his necessities; morals guarded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9fb8c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Journeyman – if apprentice lacked money to become a master, he could continue to live and work with the master; did receive pay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ll land except that which was farmed for the lord was treated as one big farm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etermined to a large extent the life of the peasantry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anguage – English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church concerned itself with almost every act of every man, regardless of rank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anguage – Lati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illegitimate son of the previous duke of Normandy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ousin to Edward the Confessor (the king before Harold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dward died childless early in 1066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arold of Wessex was crowned the following day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illiam claimed that the King Edward had promised him the throne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illiam gathered a huge army and sailed across the English Channel to seize what he felt was rightfully hi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456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illiam did not want to conquer the Anglo-Saxons; he just wanted to rule them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ecause of that, we have a culture and a language that is a combination of Norman and Anglo-Saxon element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Anglo-Saxons provided more democratic and artistic element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Normans provided administrative ability, emphasis on law and order, and cultural unity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5331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One of William’s greatest feats was the Domesday Book – an inventory of nearly every piece of property in England—land, cattle, and building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r the first time, people in Europe were taxed on what they owned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survey helped to solidify the feudal system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eudalism is a social hierarchy that was recognized for centurie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t was a social system, a caste system, a property system, and a military system.  (A caste system is a system based on birth or wealth.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ased on a religious concept of rank with God as the supreme overlord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Content Placeholder 3" descr=""/>
          <p:cNvPicPr/>
          <p:nvPr/>
        </p:nvPicPr>
        <p:blipFill>
          <a:blip r:embed="rId1"/>
          <a:stretch/>
        </p:blipFill>
        <p:spPr>
          <a:xfrm>
            <a:off x="433440" y="512640"/>
            <a:ext cx="827712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5331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y requiring that nobles swear loyalty to him, William was establishing the principle of centralized government in England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7ca3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feudal system did not always work.  Occasionally, a vassal might choose not to honor his obligations, and battles between iron-clad knights would break out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6:02:53Z</dcterms:created>
  <dc:creator>pcoles</dc:creator>
  <dc:description/>
  <dc:language>en-US</dc:language>
  <cp:lastModifiedBy>pcoles</cp:lastModifiedBy>
  <dcterms:modified xsi:type="dcterms:W3CDTF">2009-01-25T15:59:43Z</dcterms:modified>
  <cp:revision>10</cp:revision>
  <dc:subject/>
  <dc:title>The Middle Ages</dc:title>
</cp:coreProperties>
</file>